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5C0C0-EE19-4F63-BDB7-E1126A14B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8EB7B-F3D8-4DF8-9146-92FCCB64B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A0FD5D-AA39-4128-9FE0-50111E807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94379-200A-40ED-9122-3BB6D9163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93D90-1225-40F3-904E-FD20BA7A0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BAF2E-BF26-47EE-8770-0B98EC862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21C0D-8050-416B-A77C-0A20E2D0D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ACDAF-0C7B-46A5-ACCB-5EA97CC8C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AB554-A7D2-481C-B8D1-436EB557E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941C9-35D8-4B7D-89E7-0B8183730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302F2-606E-42A6-ACB8-E5914F17D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1C2E7-D9FB-43EF-99DF-9DAB00762D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AE5B2-9D1A-44FF-A29D-A16C1065F43C}"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CORDEX</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NAMARU Hidek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MIP</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Regional Climate Model Intercomparison Project for Asia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EMS</a:t>
            </a:r>
            <a:r>
              <a:rPr b="0" lang="ja-JP" sz="3200" spc="-1" strike="noStrike">
                <a:solidFill>
                  <a:srgbClr val="000000"/>
                </a:solidFill>
                <a:latin typeface="Arial"/>
              </a:rPr>
              <a:t> – Chin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RegCM3 - Japa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NJU MM5 - Chin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NU RCM - Kore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MRI (JSM_BAIM) - Japa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SIRO CCAM - Australi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RCCAP</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64" name=""/>
          <p:cNvGraphicFramePr/>
          <p:nvPr/>
        </p:nvGraphicFramePr>
        <p:xfrm>
          <a:off x="971640" y="2892600"/>
          <a:ext cx="7345440" cy="3632040"/>
        </p:xfrm>
        <a:graphic>
          <a:graphicData uri="http://schemas.openxmlformats.org/drawingml/2006/table">
            <a:tbl>
              <a:tblPr/>
              <a:tblGrid>
                <a:gridCol w="1603440"/>
                <a:gridCol w="1171440"/>
                <a:gridCol w="1689120"/>
                <a:gridCol w="1512720"/>
                <a:gridCol w="1368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D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DCM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GCM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CS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CM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CP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C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F</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M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5" name=""/>
          <p:cNvSpPr/>
          <p:nvPr/>
        </p:nvSpPr>
        <p:spPr>
          <a:xfrm>
            <a:off x="1228680" y="1268280"/>
            <a:ext cx="708840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th American Regional Climate Change Assessment Program</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2004</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41-2070 minus 1971-2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457200" y="274680"/>
            <a:ext cx="8229600" cy="5851440"/>
          </a:xfrm>
          <a:prstGeom prst="rect">
            <a:avLst/>
          </a:prstGeom>
          <a:ln w="0">
            <a:noFill/>
          </a:ln>
        </p:spPr>
      </p:pic>
      <p:pic>
        <p:nvPicPr>
          <p:cNvPr id="67" name="" descr=""/>
          <p:cNvPicPr/>
          <p:nvPr/>
        </p:nvPicPr>
        <p:blipFill>
          <a:blip r:embed="rId2"/>
          <a:stretch/>
        </p:blipFill>
        <p:spPr>
          <a:xfrm>
            <a:off x="2195640" y="0"/>
            <a:ext cx="43844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287280" y="0"/>
            <a:ext cx="8748720" cy="6781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1674720" y="0"/>
            <a:ext cx="5850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 descr=""/>
          <p:cNvPicPr/>
          <p:nvPr/>
        </p:nvPicPr>
        <p:blipFill>
          <a:blip r:embed="rId1"/>
          <a:stretch/>
        </p:blipFill>
        <p:spPr>
          <a:xfrm>
            <a:off x="2249640" y="0"/>
            <a:ext cx="484488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 descr=""/>
          <p:cNvPicPr/>
          <p:nvPr/>
        </p:nvPicPr>
        <p:blipFill>
          <a:blip r:embed="rId1"/>
          <a:stretch/>
        </p:blipFill>
        <p:spPr>
          <a:xfrm>
            <a:off x="2666880" y="0"/>
            <a:ext cx="448308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 descr=""/>
          <p:cNvPicPr/>
          <p:nvPr/>
        </p:nvPicPr>
        <p:blipFill>
          <a:blip r:embed="rId1"/>
          <a:stretch/>
        </p:blipFill>
        <p:spPr>
          <a:xfrm>
            <a:off x="1360440" y="0"/>
            <a:ext cx="652464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1"/>
          <a:stretch/>
        </p:blipFill>
        <p:spPr>
          <a:xfrm>
            <a:off x="1601640" y="0"/>
            <a:ext cx="5850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 descr=""/>
          <p:cNvPicPr/>
          <p:nvPr/>
        </p:nvPicPr>
        <p:blipFill>
          <a:blip r:embed="rId1"/>
          <a:stretch/>
        </p:blipFill>
        <p:spPr>
          <a:xfrm>
            <a:off x="1209600" y="0"/>
            <a:ext cx="67471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DEX</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 COordinated Regional climate Downscaling EXperiment</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velop a framework </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Foster an international coordinated effort for input to impact/adaptation work and to the IPCC AR5</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Promote greater interaction and communication between global climate modelers, the downscaling community and end-users to better support impact/adaptation activities.</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 descr=""/>
          <p:cNvPicPr/>
          <p:nvPr/>
        </p:nvPicPr>
        <p:blipFill>
          <a:blip r:embed="rId1"/>
          <a:stretch/>
        </p:blipFill>
        <p:spPr>
          <a:xfrm>
            <a:off x="1057320" y="0"/>
            <a:ext cx="675468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 descr=""/>
          <p:cNvPicPr/>
          <p:nvPr/>
        </p:nvPicPr>
        <p:blipFill>
          <a:blip r:embed="rId1"/>
          <a:stretch/>
        </p:blipFill>
        <p:spPr>
          <a:xfrm>
            <a:off x="1409760" y="0"/>
            <a:ext cx="57546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 descr=""/>
          <p:cNvPicPr/>
          <p:nvPr/>
        </p:nvPicPr>
        <p:blipFill>
          <a:blip r:embed="rId1"/>
          <a:stretch/>
        </p:blipFill>
        <p:spPr>
          <a:xfrm>
            <a:off x="1976400" y="0"/>
            <a:ext cx="439596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1"/>
          <a:srcRect l="0" t="44414" r="0" b="0"/>
          <a:stretch/>
        </p:blipFill>
        <p:spPr>
          <a:xfrm>
            <a:off x="34920" y="-100080"/>
            <a:ext cx="8675640" cy="681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roups are encouraged to perform as many of the limited-area integrations as possibl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frica – focus reg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We ask that the CORDEX domain be fully within your interior model domain and you try to deviate as little as possible from the requested domain, while still satisfying your own interest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archive</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re, relevant to all communities: monthly and seasonal me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er 1, relevant to most communities: daily surface/selected upper air dat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er 2, higher frequency and more complete atmospheric/surface vari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anish Meteorological Institute</a:t>
            </a:r>
            <a:r>
              <a:rPr b="0" lang="ja-JP"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version of R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group to do what region with ERA-interi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CMIP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downsca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k to your own research interes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395280" y="0"/>
          <a:ext cx="8497440" cy="6857640"/>
        </p:xfrm>
        <a:graphic>
          <a:graphicData uri="http://schemas.openxmlformats.org/drawingml/2006/table">
            <a:tbl>
              <a:tblPr/>
              <a:tblGrid>
                <a:gridCol w="1308240"/>
                <a:gridCol w="1053000"/>
                <a:gridCol w="939600"/>
                <a:gridCol w="792720"/>
                <a:gridCol w="792720"/>
                <a:gridCol w="792720"/>
                <a:gridCol w="939600"/>
                <a:gridCol w="939600"/>
                <a:gridCol w="939240"/>
              </a:tblGrid>
              <a:tr h="75888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CMIP5</a:t>
                      </a:r>
                      <a:endParaRPr b="0" lang="en-US" sz="11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75852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Historica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RCP (2006-21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MIP</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Decadal (3 GCM minimum)</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592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ERA-interim</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1950-20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RCP4.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RCP8.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1980-20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1990-20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2005-20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1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South Americ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1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Central Americ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1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North Americ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1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Europ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1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fric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1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West Asi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1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East Asi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1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Central Asi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1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ustraliasi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2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ntarctic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1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rctic</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1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Mediterranea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Historical runs for the period Jan 1950 – Dec 2005</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 RCP4.5 and RCP8.5 scenario runs for the period Jan 2006 – Dec 210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 AMIP integrations : All yea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 Decadal hindcasts/forecasts : A minimum of 3 members/GCM for the 3 integration periods initialized at the first date and run to the second date: (i) 1980-2010, (ii) 1990-2000, (iii) 2005-203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MIP5-GCMs (</a:t>
            </a:r>
            <a:r>
              <a:rPr b="0" lang="en-GB" sz="3200" spc="-1" strike="noStrike">
                <a:solidFill>
                  <a:srgbClr val="000000"/>
                </a:solidFill>
                <a:latin typeface="Arial"/>
              </a:rPr>
              <a:t>6 hourly, global data on model levels, </a:t>
            </a:r>
            <a:r>
              <a:rPr b="0" i="1" lang="en-GB" sz="3200" spc="-1" strike="noStrike">
                <a:solidFill>
                  <a:srgbClr val="000000"/>
                </a:solidFill>
                <a:latin typeface="Arial"/>
              </a:rPr>
              <a:t>Temperature, eastward and northward wind velocity, specific humidity and surface pressure.</a:t>
            </a:r>
            <a:r>
              <a:rPr b="0" lang="en-GB" sz="3200" spc="-1" strike="noStrike">
                <a:solidFill>
                  <a:srgbClr val="000000"/>
                </a:solidFill>
                <a:latin typeface="Arial"/>
              </a:rPr>
              <a:t> Daily and/or monthly values of  </a:t>
            </a:r>
            <a:r>
              <a:rPr b="0" i="1" lang="en-GB" sz="3200" spc="-1" strike="noStrike">
                <a:solidFill>
                  <a:srgbClr val="000000"/>
                </a:solidFill>
                <a:latin typeface="Arial"/>
              </a:rPr>
              <a:t>sea surface temperature, sea-ice fraction, soil moisture and soil temperature</a:t>
            </a:r>
            <a:r>
              <a:rPr b="0" lang="en-GB" sz="3200" spc="-1" strike="noStrike">
                <a:solidFill>
                  <a:srgbClr val="000000"/>
                </a:solidFill>
                <a:latin typeface="Arial"/>
              </a:rPr>
              <a:t>), early summer of 2010</a:t>
            </a:r>
            <a:r>
              <a:rPr b="0" lang="ja-JP"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 the period 1989-2008. will be used to evaluate the downscaled results across different methods, models and regions of the wor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ERA-interim (</a:t>
            </a:r>
            <a:r>
              <a:rPr b="0" lang="en-GB" sz="3200" spc="-1" strike="noStrike">
                <a:solidFill>
                  <a:srgbClr val="000000"/>
                </a:solidFill>
                <a:latin typeface="Arial"/>
              </a:rPr>
              <a:t>6-hourly, global, multi level data 2°x2°version of the original ERA-interim), now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ocol</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44°x0.44° for an equatorial rotated coordinate system, resulting in a quasi-regular resolution of ~50km.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oups may run higher resolution after completing 50km - 0.22°x0.22° resolution and 0.11°x0.11° resolution (suggested for Europe), for examp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tral nudging or no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still an ongoing discussion as to whether 3-hourly values of 2-metre temperature and precipitation should also be stored at the central CORDEX archive</a:t>
            </a:r>
            <a:r>
              <a:rPr b="0" lang="ja-JP"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gnostic study</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sk Force on Regional Climate Downscaling (TFRCD) welcomes volunteers to coordinate analysis of CORDEX downscaled data on various domai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llation and quality-control of suitable observation data.</a:t>
            </a:r>
            <a:r>
              <a:rPr b="0" lang="ja-JP"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CM interior domain, i.e. the area left once the boundary relaxation zone is exclu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0" y="0"/>
            <a:ext cx="9144000" cy="693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3T16:13:11Z</dcterms:created>
  <dc:creator>Hideki Kanamaru</dc:creator>
  <dc:description/>
  <dc:language>en-US</dc:language>
  <cp:lastModifiedBy>Hideki Kanamaru</cp:lastModifiedBy>
  <dcterms:modified xsi:type="dcterms:W3CDTF">2009-08-04T06:08:00Z</dcterms:modified>
  <cp:revision>15</cp:revision>
  <dc:subject/>
  <dc:title>Intercomparison projects and CORDEX</dc:title>
</cp:coreProperties>
</file>